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8DB-98DE-42A6-9BB4-F9B7AFF4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260-D4E7-4CC7-9F0C-EEFFA98E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D37F0-5330-41B9-9A5E-EF53BBCA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9DA80-B715-4421-A3BC-3F8E378C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14275-0BBC-4A90-A52A-C1939900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446E9-C783-4CBE-B75B-51DEC8D9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3E288-EEE7-41D7-AC45-69CD2658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41ECE-6C8F-438D-BCC7-1096C219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E0F10-AAD5-4A77-919C-BC34FBF3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1DEC3-FD7C-418B-BB7F-F655F954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847B5-29F6-468F-99E7-D24075FF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1B7F9-DDCA-47B2-8F6C-C542CEC0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BCE-2807-43E4-9406-ACE08C5F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56223-20A8-442D-8DEE-18F3775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992A9-7E2F-48BF-ADF4-2B289C0A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6C76B-B5DF-4048-B1C3-F6C540F2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9ADA2-EF12-402F-B748-C57CE45D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8BF6F-2AF7-4E02-93A9-1A862DCD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C2E96-8F6D-457E-9DFF-A49DB767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C5046-B241-46BA-95DB-5B2C986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FF783-3FF1-4C14-B86D-209661BE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F4BA9-0C96-430F-994A-CD73C1EB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70CDF-2FFA-4640-A786-CCE58CA2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BB9-DFC9-40ED-BC66-AE4817F1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38E9F-7841-471C-87FE-5B8376A3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1DF9D-FB86-48B9-B16A-479B8699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C335F-20DE-494D-A623-4939BBCB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1B1C1-2A8F-4C22-9CF6-62B9B568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F62C3-334F-483D-BDBB-686BE14D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AE0AB-2907-4EEE-A192-D882B972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DC484-C2E1-42A8-B17C-91ED03C2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B2678-AF93-4FD7-9731-B37CAF4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EF39D-6F58-487C-AC5E-2E9EE2DE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A0E48-407E-47AB-AD87-A2B82DAB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1DEB-ADC8-496B-9D37-1F69A285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7640C-9CD4-46A1-AF5F-4DC64DAB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9F4A7-B4CF-40D8-A8B2-A81C8B90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8C6D5-5D22-4CDC-834C-C8419364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BF4FB-A17B-4B48-A4D2-F2EB66C9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EA5FE-D632-479F-8E8B-9A1FAE70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A24A6-907A-40FB-AB40-789973FB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60E39-B5C3-461B-8F89-A08CAF5F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E537A-4C2A-4D5C-8DB5-E8173020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6B933-5D89-411F-8EFA-1E7BF1FC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D3A42-F039-499C-9E2D-5024719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D7FF-2D1D-4250-AA32-43C81D95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7C437-1875-4B5D-AE6E-1BE549F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13A44-E1C7-4420-8EC6-8F06F62A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23C73-7D71-4C58-9D64-F9065D66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0B98A-8DCF-4C4E-9B81-3860B60A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357CC-6485-4090-8857-0F011462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E4661-3FD6-4149-941B-8A09249C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C84C1-3476-4728-8801-857929D0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378B1-AE81-41D4-A017-FB17E9D8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EED8F-66AB-4F20-8010-9540BF37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57A5D-B5D7-4E4A-A578-869545F1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32EA-5C52-4D48-8196-4EAFD27E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10EAF-8194-4F3D-8544-9EBA1BF7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BB57A-6DA9-4089-B213-B39A9217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DEE52-B2A6-4B54-BB21-3A438D09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04B4F-4BC6-42C1-941C-B5D84309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56DD5-CC59-48DC-B0DA-124051C0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84A3D-84F6-46C6-96F2-0E6D6BF1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9AC96-BE9B-4BEF-B358-A3B4B920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4E4F9-CF06-4DAA-A15F-96E3BDCD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CAE0C-01B4-49A3-BC83-4CB754D0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85DB0-DDE1-4386-9BF6-56F875DD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2D19-59EE-4F3E-A77F-9512E8B9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8F7F5-4966-4D87-A5B2-CA65CB26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9D2C7-A26B-4F84-A909-A9282F4E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30EDF-8073-4220-92B2-CC07D3A2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1844C-1600-4FB2-98A9-9F8855DD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94EF1-D447-4FA2-80CC-C275DD93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4F278-38FA-4190-8877-5F4B542E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9B020-3988-4E9E-97DC-11DBCBB3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85C51-10DD-4742-9B46-92599577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CCD6B-7960-4C48-8001-AE48829B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20B20-9C56-46E2-A843-FD4F5B59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B1E2-DA97-4DCE-BD7E-BE28C9EB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523FB-04CC-401E-A652-131ADB35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DE2A7-84E4-41D4-BB86-C9664725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568D9-4533-45DE-B8CD-D0D1E031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57749-EE84-4654-8378-0BE07A71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8A66D-E969-43C3-A2A0-00D8307B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8011F-06A2-4226-86DF-9183E453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A9A57-69B7-4159-9814-DA7EB86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8D6E6-7BB2-4050-9C58-74A9FA4E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998AC-FB5F-462B-8F06-58444A17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42E18-86D0-411B-93F0-D6CA8104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CB6E-05BE-4071-AB05-18A5E285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2D4A2-9040-4B62-832C-A254B9C4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B6B0E-B643-435A-93AB-4D0F2EF6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7A0E7-2915-494C-B16F-12547BAC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75E639-7DCE-4CCC-BC97-84A7558A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E1E06-3837-4575-A432-C288C6A4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4BDCD-9E32-4E37-B092-603CD963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F51B3D-18A4-4154-BBC0-20595654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9B6F5-B849-4CA9-B0E4-C4173408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15371-009F-40C4-8D0B-F92DC2B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78F2A-A8BD-46AC-8243-761EB116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BBA4-D4BE-4C74-8ED4-87738450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E2F9B-86E8-4EB6-92BE-5A9B66F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5B148-0C1B-442E-B92B-CC0F5787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2AA48-7832-4089-A85F-259E436C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823D9-EE83-490E-8AF9-A2E49586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6DC82-9FE8-4192-8F15-066F7EDA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B8E56-2D1D-42B8-98ED-B48FBC79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21857-61AF-46F6-A9A3-C312D0C3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A16F0-C636-4A49-B61E-915B8855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A8DF1-AAD3-415D-A3F7-1C8981D2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78548-77FA-41D0-85CA-4E8FB61C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37B-908B-4FCA-8319-F141EDE0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0210-56C3-42B9-8308-D089FFC0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CED26-F393-4CB7-8F2D-1A19E22A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644D1C-397D-4DBC-A6B4-26D0B4D8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F1D87A-4C22-4CDC-BEA0-69F12BCD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656FD-1BA1-4E55-BFCE-8929B410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316666-25D7-4138-ACAD-3580054F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B25B5-FB5A-4686-9211-D295BC1B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BA9F4-73DB-4268-A3CF-3DFF8D38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43614-B9C3-454E-BFBC-17E92622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A7364-A6BA-4DAC-B76F-05C69307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AD7C38-AB8A-41F1-9458-6DF32C45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8700-583E-401E-A0B0-3A1D9F1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F26CB-BF2B-4898-9B98-D2E0E2A9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D2018-DB9B-4A56-9EEF-3F6E0573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B2A71-44D7-4803-80DE-9003336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C3661-0A2A-4AD8-A39E-97E3BFF1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2B56CB-18DE-4E5B-9010-F81204EB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70A8E-461E-43F8-AD0E-C64004B6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0811D-3CC0-4F10-87C3-BB5057C4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ADC3BC-CF63-4FCA-BE58-1CC86583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34976-54DE-4CD0-99C8-9A94DBA4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567BD-8B22-4D94-A736-CF3AFB4F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B546-1FAD-4309-BF14-6E425959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C994D5-2B96-4B8C-9B64-6BDBD7DD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4A2490-DF20-4E75-9E94-2C070702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DD9127-DF96-453E-A95E-1CCA7CBD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E91E93-8E7C-4966-B1D9-6FD54930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E9D830-E27E-4C1E-B757-9BD67DB0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7B279-4ED3-42C1-A43D-149DCA8A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C02E3-65B8-4754-9540-8C8D744C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54D0C-CDF8-49ED-AF02-F781CB79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9F12C7-7685-4CE4-A642-8E58C718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7661CC-F54B-4FF7-B992-CA06E473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7EDE-0D26-4403-93F3-BE072A3A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E5813B-6A82-477D-B9C7-2EBE2BC7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2465E5-320D-48A1-850C-9CE192BE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19E58A-54DE-4539-A246-77EC1DED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0D313-CB1C-4A0E-BFDB-77892731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79702-D506-4122-A4CE-B7A5ADF2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CF6F67-4DDA-430D-B8DB-A1803396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19EB99-4E6D-4C82-BE1B-FFE5B6F6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4F6B47-F29D-4BE0-AE26-EED26369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F9EE4-C80D-4ECC-9500-C74D03FF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312EC5-EF5C-4EB1-8376-A3F2048B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6843-2A38-41A6-9361-93743358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62B97-BDF9-4BEF-A574-218890E7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773E40-7636-4702-9FFD-BFDFE13D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43F27F-94AF-40D3-B073-3A79F875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22B29C-7B72-48E0-B539-E5A7AB34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36DA5-26AC-41A7-A398-CAB561E6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39A9FB-92E6-48FA-98F9-E7B54EA8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422BDC-FF1D-4470-A672-93EBFD14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6DF835-1FAC-466B-8AFE-5BB641C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E8CD68-D938-40E7-928B-6CDDC211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8D2826-7D09-42BC-AA6A-AD734365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2790A-0063-4C86-8528-C95648EA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3FD4BF-79DA-4814-AF79-3A9F6D6F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CA652A-05D2-4B84-923B-DCC920F6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C13034-DEB5-4111-9F52-27C2DDFF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591943-5AEA-490E-BD5C-FDF84197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274216-4D4E-4FD8-8BD4-689152BF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7653D3-F6F5-4990-987A-43EFFCEB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0C6DD3-8584-453D-B829-D0AC1A35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40A4B3-6E09-4907-A61B-A2F5D3E3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7BB122-4E8B-44AC-AAE9-E1EFFA0F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AAE674-EA32-469A-998A-EAA929CA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F3657-2BCF-4940-BE4C-DDE08D02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90D9B6-1C47-4ABF-8A6F-637428BE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C2CCC5-2C68-411B-A237-25397C9E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D86C72-9A40-4710-A1BC-B77498C1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39145D-F1EB-49F8-BF85-31B71CCB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C8B97A-B01D-40B7-BDB5-CC4EB002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396AC6-B9B0-4479-952B-BC111C14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43D175-61C0-4398-889A-292A32AD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288B4-B109-41F0-A14B-75A32AD1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40EF5B-F976-42A7-B946-CF00C119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69FEA3-E8DC-4546-AFFD-69693A24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22063-D085-43B3-B920-71DC79DA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570ED1-687F-4E50-9CFC-8B67FAE0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FCE611-EA36-4163-9459-8110D901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73AFDA-D8F6-4CBC-955D-9C8E33D4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C5CCD3-2DBF-498A-88F2-64EBDF22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071DE1-FC1B-4E2B-A999-2F319C9F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BE81A4-F9E3-42EE-BB7D-E074DDA6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4C76E9-80B0-4AFB-B2F7-0A8DEE87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C4DF-8284-45C3-8F11-07EA4288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AD5B-3BE3-448A-A349-CC181D60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E81-9141-4736-9FE8-1DB62962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4AB7-D99B-4192-BBF5-17D87D9D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246A-AF47-4580-932B-D02E58A7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ABCA-46B4-4012-87BF-AF5DDEE3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FAD8-01BD-49D5-B937-43C7AF5C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3F89-574A-4709-8EC3-D76509E0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2808-FED3-44A3-ADA9-E5F81DEF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202F-4546-4FED-BAC0-DCEB32DA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70DC-07B8-4966-8A79-D7E6918F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7A691-E4C7-4609-90C2-15E95055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E27B-6A91-4AA1-B697-E531CF7E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0B0-C2D0-41F1-AE71-28CE0A5D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4494F-3EE2-4C1F-B84A-36756071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B6E97-6506-447E-8628-1E6ABAB6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32398-4822-42CF-8AEC-36259FF4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BAB6-8999-49D4-B33E-CA427E05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8C31-F255-4244-A8DC-E596076E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EFA15-82F6-4295-86AD-67E2A570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9A8C-E13E-499E-A70C-95CD06D0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9194C-3655-43A5-975E-8CAAD6C7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7E1F-4803-4804-902E-5D0ACFAC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992E-3D23-46D2-A80D-008C6F04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A60-4E5F-422B-B656-88A232DA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D89C6-504B-4F61-BB75-E05D6CA5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F453B-41E2-46AF-BE00-A983E8DD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EC186-7D44-44A1-9559-20803B04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A1180-1BBE-4D73-A0E6-048016DE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3B832-37E4-4B05-8534-FCAADD43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D9B72-2CF2-4630-AB77-E397CB7C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5DAA-0EB3-4306-BEF6-771977F6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28110-EBD7-493A-965C-B9B702C7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E5AC1-E0FD-497F-BC4D-B3E3E053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23D99-69A0-48C9-9E3D-86218B42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410-7C82-4C9D-9523-2665EC89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5F59E-4A65-42E7-801C-06D40ECA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0102-41F8-4A72-9BE5-8713CCB9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7880B-B8A3-45B1-819E-D948823A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820D3-FFEB-4B91-B25A-724BEC7C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05A28-DD10-4F76-B7B1-558FB8FF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8E4AC-F6EC-4198-91DB-432F8649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56CA5-76C1-4938-800B-EC5990AE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2F75C-6527-4057-9357-F429C70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EB95D-67F2-4819-9212-30FFCE5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B37B0-8E10-43DD-A787-EFAFB137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627-AEB5-4BFF-A6AE-72591408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1AF3D-CF91-408D-AC27-B2218D69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3E229-1FB5-4409-A0A5-829ADE17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1E809-5AED-4395-A314-D7D09B79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3261D-9152-4D02-8872-1A3DD1FF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3F5DB-9CBC-4521-8CD7-96411985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65FC-CADC-4CD3-9A03-F740834B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6FD83-0C69-43DD-9B1F-A98F44EF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4DCED-9BC9-42C7-A490-017F4F67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3D05E-7565-432D-AC69-0B385D0D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37927-0B73-4230-B224-6FBDA7C7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31E-38B7-4BCD-A34F-ABB1E011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B1218-153E-4871-B92D-49681F2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6B56E-9F27-481D-B6EF-28470CE0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42792-9F07-4D73-A007-EBCD2BF0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906C0-97FF-465C-AB05-AB2C0FC6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5906-B8DB-4D72-BDC2-43DBBC26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A1103-97CB-4A14-AF12-27ECCA1B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7D5C4-EE91-4990-A744-CAEE2201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9ED3C-0EFF-4A45-A2CF-161A361C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E79C7-E7AA-432A-B18D-98B915AD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20764-4BC7-4E82-AC67-50A77E15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F08-EEE4-42B3-8102-1A74DFBC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F0C00-0096-408D-B58E-394FC5CB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59184-1443-4F0D-9E72-97C95CEE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D80D0-9BA9-4526-B6F9-E9C2D474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14AF0-2C64-408C-A6E0-CC2DB4E3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2B622-004A-4588-A80F-EECCE37A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86E8F-959F-4B2C-9A7D-D1250FC3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A988A-418C-46C9-B292-1D7945D1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8DC2E-46AC-4E62-B3A9-3751937E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834C9-DD20-44A6-AA6B-3D7FC9FC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4BBED-7763-4631-8A02-4B1E40BC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1FBE-5403-407E-9C9F-6F827C0A96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6FF7-CB29-4E77-A000-CCA9F19F13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83DF-ED6D-47F0-91BB-1EAF6742F3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86F2-4D03-4D8D-B186-FDEF575454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9A18-3343-4587-940B-C5BB101BA9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394F-4579-4853-BBBA-F71D21D091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2392-1E87-4713-A36E-B23BBBEB31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36D7-9B18-4EB6-A9A5-A1CD02709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163D-861B-4099-9271-5B57BC6DF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B45A-B8CA-40B2-9A12-F189379D20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EAE0-4AFD-4CA2-BCE1-473AD076AF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B49-27E0-4CAD-8289-179AD8C23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EF83-2F77-40F9-9183-1FD3D71BF5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0F5A-2365-4E23-924B-F70C6248A8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6478-003F-4115-8672-DD05141A75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BDD0-DBC5-4EF0-89B4-981AFE8CBB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17EC-00DF-488B-A003-EA5085E7A5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AEA4-5472-4E5D-90E7-244C2985B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1F6-5DDE-4AFF-B996-AC0CE991E2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A48E-4658-4ACF-8B90-8390CC8384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FC3B-FFD3-4647-9F4F-CA48C84EFD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645B-6E61-405D-9E25-6885D99C89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2874-E425-4F56-A54E-636EAACDAE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C806-3E58-43E0-98FD-AFC198417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B873-7AF6-4845-A85A-754FB94137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A99E-1028-4F29-BFAE-9B37530C70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9399-988A-4979-B241-588EBF4F93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0D92-9CB3-4ACA-9E4B-8C3BD77799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0B17-82CA-4474-BE94-B7F27B1552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4780-855B-49B8-AD58-DFF197D398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B8CB-F6D3-4EA1-872F-959C4EB85B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DB6C-177D-453A-B978-4CAE134885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186A-4522-4E53-A421-DB1C2DEDA5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660C-EE1D-47A4-81C2-8659BCD146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6D35-FEA2-44AC-B86D-20B2BBE6A5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AD3F-FAC3-4E20-9884-B8516BCAB2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37A8-40C0-40E6-9C43-658D4DFC0E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85D9-40F4-49A6-AE1B-BC49AD8C41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F01C-C930-474A-B570-439604554B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307C-2286-4ECE-825A-29A2FC7C1C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29F4-1FD7-451B-8A27-9669E9748F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4DD0-9575-471D-9004-8D64DC647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5400" y="2282760"/>
            <a:ext cx="8955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20680" y="819000"/>
            <a:ext cx="1638360" cy="22860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81000" y="1117440"/>
            <a:ext cx="8980560" cy="64800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81000" y="1828800"/>
            <a:ext cx="7334280" cy="141912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4" descr=""/>
          <p:cNvPicPr/>
          <p:nvPr/>
        </p:nvPicPr>
        <p:blipFill>
          <a:blip r:embed="rId4"/>
          <a:stretch/>
        </p:blipFill>
        <p:spPr>
          <a:xfrm>
            <a:off x="81000" y="3247920"/>
            <a:ext cx="7923240" cy="31910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24000" y="1125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2565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324000" y="3573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395280" y="4653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9"/>
          <a:stretch/>
        </p:blipFill>
        <p:spPr>
          <a:xfrm>
            <a:off x="324000" y="537372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923760" y="730080"/>
            <a:ext cx="7296480" cy="6067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3492360" y="111600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3132000" y="1474920"/>
            <a:ext cx="180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3059280" y="1835280"/>
            <a:ext cx="108108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2843280" y="2185920"/>
            <a:ext cx="108108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3780000" y="2536920"/>
            <a:ext cx="86328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7"/>
          <a:stretch/>
        </p:blipFill>
        <p:spPr>
          <a:xfrm>
            <a:off x="1258920" y="3602160"/>
            <a:ext cx="230508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8"/>
          <a:stretch/>
        </p:blipFill>
        <p:spPr>
          <a:xfrm>
            <a:off x="4317840" y="360684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9"/>
          <a:stretch/>
        </p:blipFill>
        <p:spPr>
          <a:xfrm>
            <a:off x="1187280" y="4321080"/>
            <a:ext cx="302436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0"/>
          <a:stretch/>
        </p:blipFill>
        <p:spPr>
          <a:xfrm>
            <a:off x="1206360" y="503244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11"/>
          <a:stretch/>
        </p:blipFill>
        <p:spPr>
          <a:xfrm>
            <a:off x="2430360" y="502272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12"/>
          <a:stretch/>
        </p:blipFill>
        <p:spPr>
          <a:xfrm>
            <a:off x="2124000" y="5734080"/>
            <a:ext cx="71928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13"/>
          <a:stretch/>
        </p:blipFill>
        <p:spPr>
          <a:xfrm>
            <a:off x="3708360" y="5753160"/>
            <a:ext cx="71928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14"/>
          <a:stretch/>
        </p:blipFill>
        <p:spPr>
          <a:xfrm>
            <a:off x="5148360" y="5743440"/>
            <a:ext cx="71892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15"/>
          <a:stretch/>
        </p:blipFill>
        <p:spPr>
          <a:xfrm>
            <a:off x="1835280" y="6453360"/>
            <a:ext cx="18000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95200" y="1447920"/>
            <a:ext cx="8553600" cy="39621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2268360" y="2124000"/>
            <a:ext cx="115128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4643280" y="2108160"/>
            <a:ext cx="136872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2268360" y="2843280"/>
            <a:ext cx="179892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1763640" y="3548160"/>
            <a:ext cx="158436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6"/>
          <a:stretch/>
        </p:blipFill>
        <p:spPr>
          <a:xfrm>
            <a:off x="2050920" y="427356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7"/>
          <a:stretch/>
        </p:blipFill>
        <p:spPr>
          <a:xfrm>
            <a:off x="4284720" y="4264200"/>
            <a:ext cx="1511280" cy="2901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8"/>
          <a:stretch/>
        </p:blipFill>
        <p:spPr>
          <a:xfrm>
            <a:off x="1476360" y="4970520"/>
            <a:ext cx="28796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3:5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